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DA2-BE76-48CE-AA13-5081EFAF0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95B4-1AF8-48DB-A899-500F49CA3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E808B-35F2-4581-A545-DCBAB9845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B9B-33BC-40ED-9695-02E6247F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4EB-78B9-4B93-8C85-58A5AF3B8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334F-26A8-4BD9-825B-E7C2AAAD6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316AF-B810-4899-91CE-EDB0BD46B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8582-14B1-41B8-9A7B-391B1082C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D9694-4893-4AD6-8D38-756075193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5A2F-7B22-4B27-AB10-0E40A857D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E783-69AD-4481-8612-60B0E5E30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80BE-18F6-4C90-998C-9CE34530D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E1E8-D1E7-445B-AFD7-D4B33C3B4E11}" type="slidenum">
              <a:rPr b="0" lang="pt-B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package" Target="../embeddings/oleObject4.docx"/><Relationship Id="rId12" Type="http://schemas.openxmlformats.org/officeDocument/2006/relationships/image" Target="../media/image8.wmf"/><Relationship Id="rId13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package" Target="../embeddings/oleObject4.docx"/><Relationship Id="rId12" Type="http://schemas.openxmlformats.org/officeDocument/2006/relationships/image" Target="../media/image9.wmf"/><Relationship Id="rId13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package" Target="../embeddings/oleObject4.docx"/><Relationship Id="rId12" Type="http://schemas.openxmlformats.org/officeDocument/2006/relationships/image" Target="../media/image10.wmf"/><Relationship Id="rId1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7.wmf"/><Relationship Id="rId9" Type="http://schemas.openxmlformats.org/officeDocument/2006/relationships/oleObject" Target="../embeddings/oleObject3.bin"/><Relationship Id="rId10" Type="http://schemas.openxmlformats.org/officeDocument/2006/relationships/image" Target="../media/image5.wmf"/><Relationship Id="rId11" Type="http://schemas.openxmlformats.org/officeDocument/2006/relationships/hyperlink" Target="mailto:carlyle.laia@semad.mg.gov.br" TargetMode="External"/><Relationship Id="rId1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7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5.wmf"/><Relationship Id="rId10" Type="http://schemas.openxmlformats.org/officeDocument/2006/relationships/image" Target="../media/image6.png"/><Relationship Id="rId11" Type="http://schemas.openxmlformats.org/officeDocument/2006/relationships/hyperlink" Target="http://www.convenentes.mg.gov.br/" TargetMode="External"/><Relationship Id="rId1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3203280" y="3715920"/>
            <a:ext cx="594036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Century Gothic"/>
              </a:rPr>
              <a:t>Sistema Estadual de Meio Ambi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398920" y="2637000"/>
            <a:ext cx="374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4d4d4d"/>
                </a:solidFill>
                <a:latin typeface="Arial"/>
              </a:rPr>
              <a:t>SISEMA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1640" y="638172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3925800" y="6453360"/>
            <a:ext cx="790560" cy="2253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5218200" y="6364440"/>
            <a:ext cx="793800" cy="34920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 rot="5400000">
            <a:off x="5220000" y="2996280"/>
            <a:ext cx="287280" cy="289080"/>
          </a:xfrm>
          <a:prstGeom prst="rect">
            <a:avLst/>
          </a:prstGeom>
          <a:solidFill>
            <a:srgbClr val="6cbcc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 rot="5400000">
            <a:off x="4499280" y="2996280"/>
            <a:ext cx="287280" cy="289080"/>
          </a:xfrm>
          <a:prstGeom prst="rect">
            <a:avLst/>
          </a:prstGeom>
          <a:solidFill>
            <a:srgbClr val="346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5400000">
            <a:off x="3708720" y="2996280"/>
            <a:ext cx="287280" cy="289080"/>
          </a:xfrm>
          <a:prstGeom prst="rect">
            <a:avLst/>
          </a:prstGeom>
          <a:solidFill>
            <a:srgbClr val="81562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4292640"/>
          <a:ext cx="9144000" cy="9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429264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1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3" name="" descr=""/>
          <p:cNvPicPr/>
          <p:nvPr/>
        </p:nvPicPr>
        <p:blipFill>
          <a:blip r:embed="rId8"/>
          <a:stretch/>
        </p:blipFill>
        <p:spPr>
          <a:xfrm>
            <a:off x="6443640" y="6237360"/>
            <a:ext cx="1008000" cy="4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5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57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0" y="1268280"/>
            <a:ext cx="8748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dastro geral de convenentes – CAG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mentado pelo Decreto 44.293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92200" y="3089160"/>
            <a:ext cx="65721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edenciamento e habitação dos órgãos e entidades interessados em celebrar convênios no âmbito do Estado de Minas Gerais, gerenciado pela Auditoria Geral do es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6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6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6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69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00000" y="1268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que é necessário para celebração de convênios - ent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2560" y="2649600"/>
            <a:ext cx="85183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ojeto a ser executado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statuto do convenente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ocumentação do dirigente ( CPF, CI, Comprovante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dereço e ato de posse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ertidões negativas ( FGTS, PIS/PASEP, CND )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Declaração de contrapartid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7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1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900000" y="865080"/>
            <a:ext cx="7848720" cy="12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UXO FORMALIZ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ÊNIOS DE SAÍ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4000" y="2133720"/>
            <a:ext cx="1368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n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997440" y="2133720"/>
            <a:ext cx="1511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942160" y="2133720"/>
            <a:ext cx="1079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667640" y="2133720"/>
            <a:ext cx="1152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ríd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9280" y="4221000"/>
            <a:ext cx="151308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 proj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ifesta interes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 preenche Pla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Trabalh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683160" y="4221000"/>
            <a:ext cx="18968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 e emite parec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653080" y="4221000"/>
            <a:ext cx="1584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rifica document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abora minuta 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caminha a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ríd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308720" y="4221000"/>
            <a:ext cx="1584360" cy="1008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, em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ecer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cela o termo, co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he assinatura e pu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l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04472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8800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44508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24544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346560" y="2492280"/>
            <a:ext cx="64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494320" y="2495520"/>
            <a:ext cx="446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091280" y="2486160"/>
            <a:ext cx="577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30560" y="2125800"/>
            <a:ext cx="111744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692360" y="2486160"/>
            <a:ext cx="538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763640" y="4221000"/>
            <a:ext cx="1800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 a disponibi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çamentária/financei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1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900000" y="8650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UXO CONVÊNIOS DE ENT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39640" y="2133720"/>
            <a:ext cx="136836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Área Técnic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861080" y="2133720"/>
            <a:ext cx="151128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ed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164360" y="2133720"/>
            <a:ext cx="107964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4221000"/>
            <a:ext cx="180036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Elabora projeto, preen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Plano de trabalho e enca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Minha ao conceden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500720" y="4221000"/>
            <a:ext cx="21589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isa proposta do convên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 aprovado assinar o term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732720" y="4221000"/>
            <a:ext cx="194292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re conta específica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úne documen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astra plano de trabal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GC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osita contrapart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26036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65164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74072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849840" y="2492280"/>
            <a:ext cx="963360" cy="3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372360" y="24955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733840" y="2125800"/>
            <a:ext cx="1117440" cy="718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908000" y="2486160"/>
            <a:ext cx="8258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38560" y="4221000"/>
            <a:ext cx="2017440" cy="863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Informa disponibilida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de recursos orçamentarios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financeiro de contrapartid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276720" y="2852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3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7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900000" y="1222200"/>
            <a:ext cx="7848720" cy="113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GCON-M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gulamentado pelo Decreto 44.424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76200" y="3214800"/>
            <a:ext cx="8372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stema para acompanhar, coordenar e controlar os instrumentos de natureza financeira que permitam a entrada e de saída de recurso no Tesouro Estadu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4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4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49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>
            <a:off x="900000" y="1268280"/>
            <a:ext cx="7848720" cy="513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PLANO DE TRABALH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É o instrumento que integra a solicitação de convênio, contendo todo o detalhamento das responsabilidades assumidas por cada um dos partícipes. É o documento elaborado pelo convenente titular da instituição responsável pelo programa, constituindo-se na peça mais importante para obtenção dos recursos, vez que servirá de base para o estabelecimento das cláusulas do convênio, a sua execução, controle, fiscalização e prestação de con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60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39640" y="1413000"/>
            <a:ext cx="8136000" cy="50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 plano de trabalho deverá conte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zões que justifiquem a celebração do convêni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ção completa do projeto a ser executad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metas e fases qualitativas e quantitativas, com previsão de início e fim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visão expressa dos critérios objetivos de avaliação de desempenho a serem utiliz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nograma e o plano de aplicação dos recursos financeir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contrapartida financeira do proponente, se for o caso, para cada projeto ou event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pecificação do bem a ser produzido ou adquir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6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7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72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3" name=""/>
          <p:cNvGraphicFramePr/>
          <p:nvPr/>
        </p:nvGraphicFramePr>
        <p:xfrm>
          <a:off x="2262240" y="907920"/>
          <a:ext cx="5838840" cy="554544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262240" y="907920"/>
                    <a:ext cx="5838840" cy="554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8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8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8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4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5" name=""/>
          <p:cNvGraphicFramePr/>
          <p:nvPr/>
        </p:nvGraphicFramePr>
        <p:xfrm>
          <a:off x="1919160" y="865080"/>
          <a:ext cx="5964480" cy="565956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919160" y="865080"/>
                    <a:ext cx="5964480" cy="565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288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289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0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2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9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4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96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7" name=""/>
          <p:cNvGraphicFramePr/>
          <p:nvPr/>
        </p:nvGraphicFramePr>
        <p:xfrm>
          <a:off x="2016000" y="749160"/>
          <a:ext cx="5796000" cy="5704200"/>
        </p:xfrm>
        <a:graphic>
          <a:graphicData uri="http://schemas.openxmlformats.org/presentationml/2006/ole">
            <p:oleObj progId="Word.Document.12" r:id="rId11" spid="">
              <p:embed/>
              <p:pic>
                <p:nvPicPr>
                  <p:cNvPr id="298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016000" y="749160"/>
                    <a:ext cx="5796000" cy="570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ae6d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382560" y="3068280"/>
            <a:ext cx="576108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Palestra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d4d4d"/>
                </a:solidFill>
                <a:latin typeface="Century Gothic"/>
              </a:rPr>
              <a:t>Dat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1773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Century Gothic"/>
              </a:rPr>
              <a:t>Treinamento de </a:t>
            </a:r>
            <a:r>
              <a:rPr b="0" lang="en-US" sz="3600" spc="-1" strike="noStrike">
                <a:solidFill>
                  <a:srgbClr val="4d4d4d"/>
                </a:solidFill>
                <a:latin typeface="Century Gothic"/>
              </a:rPr>
              <a:t>Planejamento</a:t>
            </a:r>
            <a:r>
              <a:rPr b="0" lang="en-US" sz="3200" spc="-1" strike="noStrike">
                <a:solidFill>
                  <a:srgbClr val="4d4d4d"/>
                </a:solidFill>
                <a:latin typeface="Century Gothic"/>
              </a:rPr>
              <a:t> e Gestã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2773440" y="6381720"/>
            <a:ext cx="718920" cy="2970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924360" y="6453360"/>
            <a:ext cx="792000" cy="22536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5219640" y="6364440"/>
            <a:ext cx="792360" cy="3492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" name=""/>
          <p:cNvGraphicFramePr/>
          <p:nvPr/>
        </p:nvGraphicFramePr>
        <p:xfrm>
          <a:off x="0" y="2654280"/>
          <a:ext cx="9144000" cy="919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2654280"/>
                    <a:ext cx="9144000" cy="9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1" name=""/>
          <p:cNvGraphicFramePr/>
          <p:nvPr/>
        </p:nvGraphicFramePr>
        <p:xfrm>
          <a:off x="1547640" y="6308640"/>
          <a:ext cx="673200" cy="389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547640" y="6308640"/>
                    <a:ext cx="673200" cy="38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3" name="" descr=""/>
          <p:cNvPicPr/>
          <p:nvPr/>
        </p:nvPicPr>
        <p:blipFill>
          <a:blip r:embed="rId8"/>
          <a:stretch/>
        </p:blipFill>
        <p:spPr>
          <a:xfrm>
            <a:off x="6443640" y="6237360"/>
            <a:ext cx="1008000" cy="444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4845600" y="3016080"/>
            <a:ext cx="333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anna Mesquita e Carlyle La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195800" y="330516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/02/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00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01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2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0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6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08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395280" y="865080"/>
            <a:ext cx="8352000" cy="605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GESTO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alisar e autorizar alterações no convênio, mediante justificativas, após acordado com a Diretoria técnic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ompanhar a execução física e financeira do convêni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aborar o relatório físico e apresentar o relatório técnico (convênio de entrada de recurs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resentar o relatório técnico e aprovar o relatório físico – financeiro (convênio de saída de recurso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ntar para a vigência do convên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1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1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1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20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95280" y="1268280"/>
            <a:ext cx="8352000" cy="37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IMPORTAN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m Plano de Trabalho bem elaborado e um acompanhamento das metas e fases do convênio pelo Gestor, significa uma boa execução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2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2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68360" y="1413000"/>
            <a:ext cx="8351640" cy="454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OLICITAÇÃO DE PAGAMENTO DOS CONVÊNIO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Coordenadoria de Convênios informará mensalmente através de MEMO aos Gerentes de Ação a situação da prestação de contas dos convenentes para que sejam liberadas as próximas parcel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 Gerente da Ação deverá aprovar e incluir no planejamento os convênios, informando qual a fonte financiado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96720" y="1268280"/>
            <a:ext cx="8352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45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346" name=""/>
          <p:cNvSpPr/>
          <p:nvPr/>
        </p:nvSpPr>
        <p:spPr>
          <a:xfrm>
            <a:off x="2771640" y="2424240"/>
            <a:ext cx="1224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r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075280" y="2424240"/>
            <a:ext cx="1224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453440" y="2422440"/>
            <a:ext cx="122400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C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698920" y="3862440"/>
            <a:ext cx="1296720" cy="936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embol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vên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075280" y="3863880"/>
            <a:ext cx="1368360" cy="1079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scentraliz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7164360" y="3863880"/>
            <a:ext cx="1871640" cy="1293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fere 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rogramação 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bera o recur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3348000" y="2927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724360" y="2927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8101080" y="292752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1915560" y="968400"/>
            <a:ext cx="586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LUXO DE DESEMBOLS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ÊNIOS DE SAÍD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995640" y="263844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99280" y="2629080"/>
            <a:ext cx="1154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79280" y="2424240"/>
            <a:ext cx="187164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ordenado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 Convên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179280" y="3862440"/>
            <a:ext cx="2160720" cy="79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forma situaçã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 prestação d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as do convene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116000" y="29289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019240" y="2638440"/>
            <a:ext cx="752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36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1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1295280" y="119700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4360" y="1432080"/>
            <a:ext cx="7775280" cy="43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strução Normativa n.º 07/2003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ender ao Tribunal de Contas do Estado de Minas Gerais através da Instrução normativa nº. 07/03 que estabelece normas de fiscalização contábil, financeira, orçamentária, operacional e patrimonial nas administrações Direta e Indireta do Est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s: Os Regionais e Supram’s devem encaminhar os anexos até o dia 20 de cada mês, impreterive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659640" y="29973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5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377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4"/>
          <a:stretch/>
        </p:blipFill>
        <p:spPr>
          <a:xfrm>
            <a:off x="8101080" y="341280"/>
            <a:ext cx="90000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80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8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33520" y="2254320"/>
            <a:ext cx="8153280" cy="39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Superintendente: Carlyle dos Passos Lai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e-mail: </a:t>
            </a:r>
            <a:r>
              <a:rPr b="0" lang="en-US" sz="2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carlyle.laia@semad.mg.gov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Telefone: (031) 32195430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Coordenadoria de Convênios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e-mail:</a:t>
            </a:r>
            <a:r>
              <a:rPr b="1" lang="en-US" sz="2200" spc="-1" strike="noStrike">
                <a:solidFill>
                  <a:srgbClr val="009999"/>
                </a:solidFill>
                <a:latin typeface="Arial"/>
              </a:rPr>
              <a:t>alanna.mesquita@semad.mg.gov.b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Coordenadora: Alanna Mesquita Gonçalv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4d4d4d"/>
                </a:solidFill>
                <a:latin typeface="Arial"/>
              </a:rPr>
              <a:t>Telefone: (031) 3219542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09480" y="1143000"/>
            <a:ext cx="8077320" cy="16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4d4d4d"/>
                </a:solidFill>
                <a:latin typeface="Arial"/>
              </a:rPr>
              <a:t>Superintendência de Contabilidade e Finanç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879480" y="19368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095480" y="17924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1384200" y="179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989000"/>
            <a:ext cx="7921800" cy="441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ênios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egislaçã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ano de Trabalh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estor de Convênio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licitação de Pagamento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trução Normativa 07/200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3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5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86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7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9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250920" y="1413000"/>
            <a:ext cx="8642160" cy="38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onvên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mento que disciplina a transferência de recursos públicos da Administração Pública Estadual, para órgãos e entidades de qualquer nível de governo ou para instituições privadas, visando a execução de programas de trabalho ou de outros eventos com duração certa, em regime de mútua cooper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6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8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0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50920" y="1413000"/>
            <a:ext cx="8642160" cy="34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rmo de Cooperaçã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É o instrumento utilizado para formalizar inter-relações de cooperação técnica que não envolvam transferência de recursos financeir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5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7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9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11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250920" y="1413000"/>
            <a:ext cx="8642160" cy="49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LEGISLAÇÃ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âmbito do Estado de Minas Gerais, a celebração e prestação de contas de convênios de natureza financeira que tenham por objeto a execução de projetos ou a realização de eventos está regulamentada pelo Decreto n.º 43.635, de 20 de outubro de 2003 e Lei 8.666/93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 esfera Federal os convênios são regulamentados pela Instrução Normativa nº 01/97 e Lei 8.666/9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8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0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55640" y="1413000"/>
            <a:ext cx="806436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ASES DO CONVÊN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i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ebração/formalizaçã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çã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tação de Cont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27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3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55640" y="1341360"/>
            <a:ext cx="806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116000" y="1052640"/>
            <a:ext cx="7129440" cy="540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ABORAÇÃO DO PROJE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projeto a ser encaminhado deve conte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ítul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m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resent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o/contextualizaçã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bjetiv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ustificativ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l de realização e área de abrangênc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tituições envolvidas no projet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as e atividade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todologi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sumos ou recurs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0" t="-4185" r="-3407" b="0"/>
          <a:stretch/>
        </p:blipFill>
        <p:spPr>
          <a:xfrm>
            <a:off x="5148360" y="539640"/>
            <a:ext cx="720720" cy="29700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6084720" y="592200"/>
            <a:ext cx="863640" cy="24444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7164360" y="519120"/>
            <a:ext cx="719280" cy="3175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0" y="-27000"/>
          <a:ext cx="9144000" cy="776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-27000"/>
                    <a:ext cx="9144000" cy="77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0" y="6021360"/>
          <a:ext cx="9144000" cy="858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0" y="6021360"/>
                    <a:ext cx="9144000" cy="85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"/>
          <p:cNvGraphicFramePr/>
          <p:nvPr/>
        </p:nvGraphicFramePr>
        <p:xfrm>
          <a:off x="4140360" y="476280"/>
          <a:ext cx="672840" cy="388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140360" y="476280"/>
                    <a:ext cx="672840" cy="38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" descr=""/>
          <p:cNvPicPr/>
          <p:nvPr/>
        </p:nvPicPr>
        <p:blipFill>
          <a:blip r:embed="rId10"/>
          <a:stretch/>
        </p:blipFill>
        <p:spPr>
          <a:xfrm>
            <a:off x="8099280" y="404640"/>
            <a:ext cx="936720" cy="412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00000" y="126828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 que é necessário para celebração de convênios - saí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6560" y="2448000"/>
            <a:ext cx="92422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Manifestação do convenente com projeto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Cadastro Regular na Auditoria Geral do Estado – CAGEC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convenentes.mg.gov.b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Plano de trabalho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Parecer da área técnic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Dotação orçamentária;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Arial"/>
              </a:rPr>
              <a:t>Parecer Jurídic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7T17:14:56Z</dcterms:created>
  <dc:creator>Daniela Giordano</dc:creator>
  <dc:description/>
  <dc:language>en-US</dc:language>
  <cp:lastModifiedBy>semad</cp:lastModifiedBy>
  <dcterms:modified xsi:type="dcterms:W3CDTF">2008-02-19T13:06:30Z</dcterms:modified>
  <cp:revision>64</cp:revision>
  <dc:subject/>
  <dc:title>Slide 1</dc:title>
</cp:coreProperties>
</file>